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685-2990-4FB5-858D-56E8E20C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EDB-D239-49BB-84D1-A4973C75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85D-442A-4033-AD09-27C63396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49A-C30C-4202-A217-234258DF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FC3-E82C-45FB-9113-487628C4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0E3-CAD3-4DF1-A638-40D2BA47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9E3-4CBC-4766-9763-7817CB97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B86-503D-4667-8FEF-AE9E5EDF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0A5-2514-43FC-95E7-6C7985D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B8C-09D9-453D-9985-219D00A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D4E-E615-468E-BFD7-35F176C8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786-B24C-4F68-9577-D94CA97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6153-86D2-44CC-B32F-D1C773414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0T22:55:41Z</dcterms:created>
  <dc:creator>Людмила</dc:creator>
  <dc:description/>
  <dc:language>en-US</dc:language>
  <cp:lastModifiedBy>Людмила</cp:lastModifiedBy>
  <dcterms:modified xsi:type="dcterms:W3CDTF">2022-11-20T22:56:31Z</dcterms:modified>
  <cp:revision>1</cp:revision>
  <dc:subject/>
  <dc:title>Презентация PowerPoint</dc:title>
</cp:coreProperties>
</file>